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FF8-573C-4AC0-9CFB-471048A0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713-8E09-4818-B83B-3235D1D4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8C3-357E-425D-BAB2-CF01F6DA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901-2788-4B2E-9B73-A64A755E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848-948B-4E21-970D-06E3263F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5C0-1644-47B0-9CEB-F02AC278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61B-0E44-4B75-9BCB-0A4AF2FC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3B7-FCC9-4C59-B6B7-3AA2EB64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90E-10EB-4CB0-BAA5-1A1EDC77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0AA-1989-4D1A-AB91-A9E64097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1AE-A6C2-44DB-98A4-787215A3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27E-BE89-441C-9235-B6BE8A1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29A0-A79B-46F5-A45F-DB593D918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04920" y="228600"/>
            <a:ext cx="609588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имся к Г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усскому я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Рисунок1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3654720"/>
          </a:xfrm>
          <a:prstGeom prst="rect">
            <a:avLst/>
          </a:prstGeom>
          <a:ln w="0">
            <a:noFill/>
          </a:ln>
        </p:spPr>
      </p:pic>
      <p:sp>
        <p:nvSpPr>
          <p:cNvPr id="43" name="Скругленный прямоугольник 3"/>
          <p:cNvSpPr/>
          <p:nvPr/>
        </p:nvSpPr>
        <p:spPr>
          <a:xfrm>
            <a:off x="6248520" y="152280"/>
            <a:ext cx="1295280" cy="1219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Горизонтальный свиток 4"/>
          <p:cNvSpPr/>
          <p:nvPr/>
        </p:nvSpPr>
        <p:spPr>
          <a:xfrm>
            <a:off x="3581280" y="2362320"/>
            <a:ext cx="5105520" cy="25905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нажё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6"/>
          <p:cNvSpPr/>
          <p:nvPr/>
        </p:nvSpPr>
        <p:spPr>
          <a:xfrm>
            <a:off x="7543800" y="152280"/>
            <a:ext cx="1447920" cy="1219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1600200" y="55627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304920" y="152280"/>
            <a:ext cx="769608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предложений 1-4 найдите сложное 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союз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юзной сочинительн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 между ча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Каждый раз, когда приближалась осень, начинались разговоры о том, что многое в природе устроено не так, как  нам бы хотелось. (2)Зима у нас длинная, затяжная, лето гораздо короче зимы, а осень проходит мгновенно и оставляет впечатление промелькнувшей за окном золотой птицы. (3)Разговоры наши любил слушать внук лесника Ваня Малявин, мальчик лет пятнадцати. (4)Однажды Ваня принёс маленькую, выкопанную с корнем берёзу.   (К.Пауст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ятно 2 5"/>
          <p:cNvSpPr/>
          <p:nvPr/>
        </p:nvSpPr>
        <p:spPr>
          <a:xfrm>
            <a:off x="6324480" y="4572000"/>
            <a:ext cx="281952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304920" y="152280"/>
            <a:ext cx="800100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 предложений 5-7 найдите сложное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юзной сочинительной и подчинительн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частями. 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И в клубе, и в офицерской закусочной, где столовалась Варя, все разом превратились в стратегов — рисовали схемы, сыпали именами турецких пашей, гадали, откуда будет нанесен главный удар. (6)Несколько раз приезжал Соболев, но держался загадочно и важно, в шахматы больше не играл, на Варю посматривал с достоинством и на злодейку-судьбу уже не жаловался. (7)Знакомый штабист шепнул, что генерал-майору в грядущем приступе отводится хоть и не ключевая, но очень важная роль, и под началом у него теперь целых две бригады и один полк.   (Б.Акун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ятно 2 5"/>
          <p:cNvSpPr/>
          <p:nvPr/>
        </p:nvSpPr>
        <p:spPr>
          <a:xfrm>
            <a:off x="6324480" y="4572000"/>
            <a:ext cx="281952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304920" y="152280"/>
            <a:ext cx="800100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предложений 42-47 найдите сло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союзной и союзной подчини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 между частями. 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2)Гриша вернулся к себе, лёг в постель. (43)Баба Дуня ворочалась, вздыхал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разу отступало то, что пришло во сне. (44)Внук тоже не спал, лежал, угреваясь. (45)Про карточки он знал. (46)Давно, в войну и после, на них давали хлеб. (47)А Петяня, о котором горевала бабушка, - это отец. (48)Следующей ночью Гриша не слыхал бабы Дуниных криков, хотя утром по лицу её понял, что она неспокойно спала.               (Б.Еким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ятно 2 5"/>
          <p:cNvSpPr/>
          <p:nvPr/>
        </p:nvSpPr>
        <p:spPr>
          <a:xfrm>
            <a:off x="6324480" y="4572000"/>
            <a:ext cx="281952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304920" y="152280"/>
            <a:ext cx="8001000" cy="74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предложений 31-35 найдите сложное предложени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юзной сочинительной и  подчинительн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ча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)Но монахи строили на века и сотворяли из кирпича монолит – пришлось взорвать монастырь. (32)Рванули- и всё равно кирпича не взял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ась груда развалин и только. (33)Осталась от монастыря одна колоколенка и жилое помещение, в котором нынче хранятся сети и укрываются от непогоды рыбаки…(34)Среди огромного, бесконечно переливающегося бликами озера стоял на льду храм, словно бы хрустальный, и всё ещё хотелось ущипнуть себя, увериться, что всё это не во сне, не миражное видение. (35)Дух захватывает, как подумаешь, каким был этот храм, пока не заложили под него взрывчатку! (В.Астафь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ятно 2 5"/>
          <p:cNvSpPr/>
          <p:nvPr/>
        </p:nvSpPr>
        <p:spPr>
          <a:xfrm>
            <a:off x="6324480" y="4572000"/>
            <a:ext cx="281952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304920" y="152280"/>
            <a:ext cx="8001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 предложений 1-4 найдите сложное предл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азными видами связи: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чинитель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инительной и бессоюз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пишите н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пред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Хмурый лейтенант – так прозвали в нашем полку лётчика Ярового, и прозвище это лучше всего соответствовало его характеру. (2)Редко кто видел улыбку на его резко очерченных губах. (3)Он был очень странным, этот высокий, нескладный в движениях лейтенант. (4)В свои неполные двадцать семь лет он казался многое повидавшим человеком, всегда гладко выбритое лицо было прорезано глубокими морщинами, а глаза, спокойные, холодные, светло-голубые, смотрели так, как смотрят на мир глаза человека, прожившего долгую жизнь.  (Г.Семенихин)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ятно 2 5"/>
          <p:cNvSpPr/>
          <p:nvPr/>
        </p:nvSpPr>
        <p:spPr>
          <a:xfrm>
            <a:off x="6629400" y="5029200"/>
            <a:ext cx="2514600" cy="18288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304920" y="152280"/>
            <a:ext cx="800100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 предложений 41-45 найдите сло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союзной и союзной подчини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 между частями. Напишите номер этого предлож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1) Покрышки скрипели, шипели, завывали, свистели — мотор отдавал теперь всю свою мощь. (42) Кестер пригнулся к рулю, его тело превратилось в огромное ухо, в фильтр, просеивающий гром и свист мотора и шасси, чутко улавливающий малейший звук, любой подозрительный скрип и скрежет, в которых могли таиться авария и см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3) Глинистое полотно дороги стало влажным. (44) Машина начала юлить и шататься в стороны. (45) Кестеру пришлось сбавить скорость.  (Э.Ремар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ятно 2 5"/>
          <p:cNvSpPr/>
          <p:nvPr/>
        </p:nvSpPr>
        <p:spPr>
          <a:xfrm>
            <a:off x="6553080" y="4800600"/>
            <a:ext cx="259092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304920" y="152280"/>
            <a:ext cx="8001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 предложений 36-40 найдите сложное предложение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юзной сочинительной и подчинительн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номер этого предлож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6)Иногда Серёжка так злился на приставалу, что был готов его ударить, но начинать первому не хотелось, а верзила ни с кем не дралс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7)Оставалось перенять метод у противника. (38)И Серёжка на уроках осторожно водил мелом по спине Макара – ведь она торчала прямо перед ни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9)Класс посмеивался, созерцая слово «Гусь»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ар подозрительно оглядывался. (40)На переменке он гонялся за Серёжкой, но поймать более вёрткого обидчика не мог и издали грозил кулаком-дынькой. (Е.Велтистов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ятно 2 5"/>
          <p:cNvSpPr/>
          <p:nvPr/>
        </p:nvSpPr>
        <p:spPr>
          <a:xfrm>
            <a:off x="6553080" y="4800600"/>
            <a:ext cx="259092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304920" y="152280"/>
            <a:ext cx="8001000" cy="66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4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 предложений 1-6 найдите сложное предложени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юзной подчинительной и бессоюзн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ями. 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На Каспийском море живёт большая птица бабура. (2)У этой птицы есть под клювом большой кожаный мешок, в который она прячет рыбу. (3)Весною бабуры-пеликаны охотятся на рыбу так. (4)Соберутся на отмели большой артелью, окружат цепью косяк рыбы и давай хлопать по воде крыльями. (5)Шум поднимут такой, что издали можно подумать: курьерский поезд мчится. (6)Пригонят рыбёшку к берегу на отмель - и пошла потеха!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колов-Микитов)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ятно 2 5"/>
          <p:cNvSpPr/>
          <p:nvPr/>
        </p:nvSpPr>
        <p:spPr>
          <a:xfrm>
            <a:off x="6248520" y="4800600"/>
            <a:ext cx="259056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304920" y="152280"/>
            <a:ext cx="8001000" cy="64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предложений 61-67 найдите сло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юзной сочинительной и подчинитель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. 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1)- Развяжите меня на две минуты и держите за руку, а я скажу ему, что мы с вами гуляем, что вы мне приятель, и он уйдёт. (62)А тогда убивайте, как хотите. (63)Руководитель согласился. (64)Тогда пленный взял опять мальчика на руки и сказа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5)- Будь умник, пойди к К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6)- А ты что 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7)- А ты видишь, я гуляю вот с этим приятелем, мы пойдём ещё немного, а ты иди, и я приду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ятно 2 5"/>
          <p:cNvSpPr/>
          <p:nvPr/>
        </p:nvSpPr>
        <p:spPr>
          <a:xfrm>
            <a:off x="6324480" y="4572000"/>
            <a:ext cx="281952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228600" y="152280"/>
            <a:ext cx="73152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457200" y="15228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762120" y="762120"/>
            <a:ext cx="6933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 свою рабо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о без ошибок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-2 ошибки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-4 ошибки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е 4 ошибок – повтори правило и выполни  тест повто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28600" y="152280"/>
            <a:ext cx="73152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04920" y="457200"/>
            <a:ext cx="853416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рогой дру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buClr>
                <a:srgbClr val="0066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buClr>
                <a:srgbClr val="0066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buClr>
                <a:srgbClr val="0066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buClr>
                <a:srgbClr val="0066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году тебе предстоит сдавать государственный экзамен по русскому язы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ся к нему тебе поможет данный образовательный ресу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 помощью таблицы  ты можешь вспомнить сложные синтаксические конструкции с сочинительной, подчинительной и бессоюзной связью (задание 14 тестовых заданий ГИ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помощью тренажёра ты можешь проверить свои умения и навыки и получить оценку по данному тесту. Постарайся выполнить как можно больше заданий и набрать наибольшее количество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юсь, что эти занятия помогут тебе успешно подготовиться к ГИА по русскому язы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pSp>
        <p:nvGrpSpPr>
          <p:cNvPr id="120" name="Прямоугольник 3"/>
          <p:cNvGrpSpPr/>
          <p:nvPr/>
        </p:nvGrpSpPr>
        <p:grpSpPr>
          <a:xfrm>
            <a:off x="-6480" y="6480"/>
            <a:ext cx="9150480" cy="6864120"/>
            <a:chOff x="-6480" y="6480"/>
            <a:chExt cx="9150480" cy="6864120"/>
          </a:xfrm>
        </p:grpSpPr>
        <p:pic>
          <p:nvPicPr>
            <p:cNvPr id="12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6480" y="6480"/>
              <a:ext cx="9150480" cy="68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142920"/>
              <a:ext cx="8858160" cy="65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7"/>
          <p:cNvSpPr/>
          <p:nvPr/>
        </p:nvSpPr>
        <p:spPr>
          <a:xfrm>
            <a:off x="-214200" y="6157800"/>
            <a:ext cx="86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hm-a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2"/>
          <p:cNvGrpSpPr/>
          <p:nvPr/>
        </p:nvGrpSpPr>
        <p:grpSpPr>
          <a:xfrm>
            <a:off x="426960" y="1865160"/>
            <a:ext cx="8217000" cy="3859200"/>
            <a:chOff x="426960" y="1865160"/>
            <a:chExt cx="8217000" cy="3859200"/>
          </a:xfrm>
        </p:grpSpPr>
        <p:pic>
          <p:nvPicPr>
            <p:cNvPr id="125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426960" y="1865160"/>
              <a:ext cx="821700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71680" y="2000160"/>
              <a:ext cx="792936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10"/>
          <p:cNvSpPr/>
          <p:nvPr/>
        </p:nvSpPr>
        <p:spPr>
          <a:xfrm>
            <a:off x="785880" y="2143080"/>
            <a:ext cx="7500960" cy="3202560"/>
          </a:xfrm>
          <a:prstGeom prst="rect">
            <a:avLst/>
          </a:prstGeom>
          <a:gradFill rotWithShape="0">
            <a:gsLst>
              <a:gs pos="0">
                <a:srgbClr val="8a3cc4"/>
              </a:gs>
              <a:gs pos="100000">
                <a:srgbClr val="8b32ce"/>
              </a:gs>
            </a:gsLst>
            <a:lin ang="189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Удачи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Рисунок1"/>
          <p:cNvPicPr/>
          <p:nvPr/>
        </p:nvPicPr>
        <p:blipFill>
          <a:blip r:embed="rId3"/>
          <a:stretch/>
        </p:blipFill>
        <p:spPr>
          <a:xfrm>
            <a:off x="7415280" y="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28600" y="152280"/>
            <a:ext cx="73152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457200" y="15228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685800" y="425520"/>
            <a:ext cx="6934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усский язык.9класс. Подготовка к ГИА-20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ое пособие/Под ред.Н.А.Сениной. – Ростов н/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гион, 2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ege.yandex.ru/russian-gia/question/B7/1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aharina.ru/gi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аблон презент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хметшина Н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аблон учебного тренажёр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ова Т.А., Байдакова Т.Б.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it-ru/profil.aspx?cat_no=692&amp;d_no=48111&amp;all=1&amp;page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228600" y="152280"/>
            <a:ext cx="73152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457200" y="15228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762120" y="762120"/>
            <a:ext cx="6933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езентац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болева Ольга Серге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русского языка и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КОУ Клеванцовская С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28600" y="152280"/>
            <a:ext cx="73152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80880" y="228600"/>
            <a:ext cx="87631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тор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uchmarket.ru - наглядные пособия: Таблицы демонстрационные &quot;…"/>
          <p:cNvPicPr/>
          <p:nvPr/>
        </p:nvPicPr>
        <p:blipFill>
          <a:blip r:embed="rId2">
            <a:lum contrast="20000"/>
          </a:blip>
          <a:srcRect l="5689" t="4710" r="5689" b="7494"/>
          <a:stretch/>
        </p:blipFill>
        <p:spPr>
          <a:xfrm>
            <a:off x="990720" y="1828800"/>
            <a:ext cx="650700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52280" y="152280"/>
            <a:ext cx="7391520" cy="160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457200" y="152280"/>
            <a:ext cx="754380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предложений 45-49 найдите сложное предложение 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союзной и союзной подчинитель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яз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5) Приехали мамины родственники, в доме поднялась суетня, так что время удобное. (46) Я сказала старой няньке, чтобы она проводила меня «к подруге за уроками», и пошл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7) Толстой был дома. (48) Те несколько минут, которые пришлось прождать в передней, были слишком коротки, чтобы я успела удрать, да и перед нянькой было неловко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9) Помню, мимо меня прошла полная барышня, что-то напевая.    (Тэфф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ятно 2 5"/>
          <p:cNvSpPr/>
          <p:nvPr/>
        </p:nvSpPr>
        <p:spPr>
          <a:xfrm>
            <a:off x="5486400" y="4267080"/>
            <a:ext cx="3200400" cy="22100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304920" y="152280"/>
            <a:ext cx="72388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 предложений 32-35 найдите сложное предложение 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союзной и союзной сочинительн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 между частями. 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2) — Прости меня, Оля, — в смущении заговорила наконец Яло. — (33) Я не понимаю, почему я такая… (34) Мне очень хочется быть хорошей, я стараюсь, но у меня ничего не получается. (35)Ты знаешь, о чем я даже думала? (В.Губарев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ятно 2 5"/>
          <p:cNvSpPr/>
          <p:nvPr/>
        </p:nvSpPr>
        <p:spPr>
          <a:xfrm>
            <a:off x="5486400" y="4267080"/>
            <a:ext cx="3200400" cy="22100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304920" y="152280"/>
            <a:ext cx="7238880" cy="65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предложений 32-38 найдите сложное предложение 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союзной и подчинитель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язью. 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2) А добрый Ряша сказал, что нельзя обвинять Тютькина. (33) Он же не для зла. (34) Просто такое у человека свойство: рисовать всё из жизни. (35) Но, конечно, объективно Лева прав: раз уж у тебя такое свойство, то надо самому за собой следить. (36) Ряше ещё никогда не удавалось кому-нибудь покровительствовать. (37) И поэтому он был рад и, пожалуй, даже упивался новым, захватывающим занятием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38) Вот вы все убиваете в нем художника, — обличал он своих ребят. (И.Звер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ятно 2 5"/>
          <p:cNvSpPr/>
          <p:nvPr/>
        </p:nvSpPr>
        <p:spPr>
          <a:xfrm>
            <a:off x="5486400" y="4267080"/>
            <a:ext cx="3200400" cy="22100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304920" y="152280"/>
            <a:ext cx="7238880" cy="68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предложений 48-50 найдите сложное предложение 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союзной, сочинительной и подчинительн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. 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) По мнению моей мамы, это как раз и говорит о том, что они ещё абсолютные дети, потому что, как утверждает мама, ни один взрослый человек никогда не захочет казаться старше своего возраста. (49) Но сами-то десятиклассники не догадываются о том, что они абсолютные дети, и никто им этого не объяснит: просто никто не решится. (50) Поэтому они и дальше будут изображать из себя утомлённых "героев нашего времени", которых ничем на свете не удивишь. (А.Алекс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ятно 2 5"/>
          <p:cNvSpPr/>
          <p:nvPr/>
        </p:nvSpPr>
        <p:spPr>
          <a:xfrm>
            <a:off x="5486400" y="4267080"/>
            <a:ext cx="3200400" cy="22100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304920" y="152280"/>
            <a:ext cx="7619760" cy="75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 предложений 18-27 найдите сложное предложение 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союзной и союзной сочинительн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ю между частями. Напишите номер эт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) Мама говорит, что Родина у человека там, где он родился и вырос. (19) А где у меня? (20) Родилась в Новоград-Волынском, на Украине, выросла в Партизанске, а сейчас вот еду лечиться в Иркутск, в Сибирь. (21) И везде Родина. (22) Но, конечно, Приморский край лучше всех. (23) Только у нас такие зелёные сопки. (24) Один багульник дальневосточный чего стоит! (25) Весной все сопки становятся розовыми от цветущего багульника. (26) А тут скалы, на которые не заберёшься. (27) Омуль, конечно, вкусный, я его уже пробовала, а в орехах сибирских нечего есть, одна скорлупа… (М.Бараз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ятно 2 5"/>
          <p:cNvSpPr/>
          <p:nvPr/>
        </p:nvSpPr>
        <p:spPr>
          <a:xfrm>
            <a:off x="6781680" y="3809880"/>
            <a:ext cx="281952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52280" y="152280"/>
            <a:ext cx="739152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Рисунок1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304920" y="152280"/>
            <a:ext cx="7619760" cy="72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 предложений 1-6 найдите сложное с разными видами связи: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инительной и сочинитель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пишите номер этого предлож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Школа наша была удивительная: в ней еще сохранялись некоторые приметы былой гимназической жизни. (2)Должен сказать, что с учителями нам повезло. (3)Литературу у нас вела мать будущих писателей Александра Ивановна Стругацкая, замечательная женщина, настоящая русская красавица с косой. (4)Именно Александра Ивановна привила нам любовь к своему предмету. (5)Раньше, до ее появления, я заведомо не хотел читать того, что было положено по школьной программе, но с её приходом у меня появился интерес к литературе. (6)Я стал много и увлечённо читать. (Ю.Сенк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ятно 2 5"/>
          <p:cNvSpPr/>
          <p:nvPr/>
        </p:nvSpPr>
        <p:spPr>
          <a:xfrm>
            <a:off x="6553080" y="2819520"/>
            <a:ext cx="2819520" cy="205740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Ахметшина</dc:creator>
  <dc:description/>
  <dc:language>en-US</dc:language>
  <cp:lastModifiedBy>Ольга</cp:lastModifiedBy>
  <dcterms:modified xsi:type="dcterms:W3CDTF">2015-03-10T18:17:20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